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FD53-CD6D-4B3B-8DAD-DEF34D6A43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675D-D5F2-47F3-9BD1-D2A1661E66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DA1D-D1E5-475D-AD11-A25ABDD48A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01BA-B29C-4A14-8201-5524CC5A2A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1C28-45E8-4E28-BFE0-AFFCCA2848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4289-1DED-4331-825E-5F045F2BF9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2004-F216-42F2-B25D-690EA61DCA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6814-363E-42AA-BF1F-7E213DC3EE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35E3-57DC-446E-AA90-EA7F796950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D5ED-F3A6-46C5-8608-FAD90D2A58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2A5F-E74C-42FC-A7E2-C8B73F3298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8D1-6F9D-4766-B1FE-EF9DF7E2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877-1B9A-4669-8AAA-7CCB8B20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F31EC-BAC2-4AF5-9FC8-0C248A60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99149-B946-40B6-AF18-7E31250D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C4A33-B625-41F3-B11C-7D716097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DE8AC-702F-42E2-8303-327C01CF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A7595-9D24-45DC-A46C-B701D27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ABF1D-D581-4166-8EF8-CED586C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8AC76-519C-4699-A702-25D2510B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5F722-5ADF-4A5B-BDE5-643A3ED2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EA0CD-FA72-44F5-B4ED-1874B587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75726-4FBF-488A-AAD6-EFEE3D4D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D35-5F21-43F4-95E0-65446BC4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E0E43-736A-436C-A84B-3B9351EA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7274E-72B1-4997-9C8B-07DDEFA4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2E107-0775-4F75-B7DD-71E2CA48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82002-081B-47EE-8613-C71D231C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68EF4-6AE5-4119-A860-4759733A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48A05-A5C9-4CB6-B0B2-ED7F8B1C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F863D-5979-479B-82A9-CB6BD357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6428F-55E4-4B82-BC9C-6EB20F0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16EA7-2EAF-4842-9EA2-0355F94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A99F8-ECA2-48A3-AE2E-B43CDC02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F00-553C-49B6-B0D1-5428CD14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B3BED-3DE2-41D8-89DA-E7EBBF17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8B217-24B8-4B20-A928-55D0987F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04A11-2A22-4DD2-96C3-476A52A9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7881E-679E-4E6B-A697-77FBDCAB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03B5B-7951-4282-97BB-0840153E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510F7-4F04-4009-909A-6DFECE00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3757F-0720-4862-BE0A-FA9247F9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4AD5F-FC44-4502-A830-1D792A86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4EF5B-B8AE-46C5-BCB1-3ACE42E6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A5991-9F89-47A1-8E13-E765D609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27A4-0CAA-4DA3-94F5-E8D69420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B8C87-6873-4BE2-B912-9D07AB04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77D3C-BDE1-463E-B151-F54DD4B1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748D8-2982-4338-B25A-5F73CAC2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AA36B-8054-4CEC-BDCB-725F7771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A64FE-0242-4BE4-873A-C05E6E67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2E784-C4CF-498B-B83A-64FA497D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98CB6-7830-4086-87FC-93DDD7A1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19F91-26A0-4899-B62F-4BE19B6E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76B59-4A89-487C-9582-2C327D45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B5171-C277-4A47-94D0-F039DF0A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C633-8E94-4171-ACFD-82AA562B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5039D-7D77-4251-AFCB-8C3453CA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CD7B4-F113-4D7A-A276-F2D75274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03BFB-7CA4-44EF-9B7E-425D28D9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0DF11-F38F-4DCD-9E47-82D24C50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E4517-C336-4569-89AB-BE78B4E5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7CD86-C324-48B1-AFAB-3F0F3CCB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53FF4-D017-439C-8EF5-DCD71A95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82AC9-84A1-4D62-9482-D707A1D8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6D1C9-658A-4485-ADEB-3F33B51F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BC6CA-5B16-4ABF-8C59-430CD965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035D-A781-4AB6-AD8F-1F7F091A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8F80A-3CEE-40DF-88ED-0F2FC58F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97CE4-72E8-4F42-8E85-1519745C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45AC2-C093-4C5B-9378-B5EF46E6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8A76C-B81C-41BF-B5CC-D7E043F2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7616F-6CA9-495E-B5E6-732F482A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CE1E9-D0D6-4997-9C06-E79E32E5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92D4D-31A2-4F4A-8471-0121C3A4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88A6-E121-4215-A827-FE6C3456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83ED-1E54-4ABB-93CB-174C51B2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A688-3DEC-484C-B9B9-3E1A42D0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E44A-5B2B-45B1-BE05-61469FDE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ACE-AAE1-4186-B597-AD894BA6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904C-4A9B-456A-B61E-435BFCD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1766-9F2F-4074-B5AF-D961C397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C8A2-7D08-4FBD-86F7-CA68226D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27A7-1CC6-473A-BC6F-12BC143D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32C1-2C8B-41AE-8DBF-5C5AAA5D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1330-46DA-467C-9522-EE5F1F43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0E9B-1E0B-4FB9-AB92-E0931B47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4C7A-DB28-4631-8D3C-68B0EA39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01B5-D81F-4AF7-8955-B683BFC3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55C0-4F5D-4C67-A4A8-21073C8E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C7A-8071-4B32-9011-ED0B5D12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D9E9-ED6F-499F-820E-24B0345C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7B92-CF5D-44F0-9E3D-21C51142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DDE4-C999-45AA-BCF5-2A25A06B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6BE7-510E-468B-B967-7F3FFA7D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E0BD-473A-437C-B112-5FC7FA7E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39D9-FE71-4015-AC78-B9EA2D8F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F6D3-6565-4DDE-B82C-B70CCD21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A3E2-51CD-4BAD-8C80-65E934E5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9492-8F96-45F7-9717-C7CA952D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8D62-B3ED-4C88-881E-83CD083E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C35-C6BC-457C-945C-A1B7B60F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9E3A7-6653-4596-8ADE-65C670DB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90D43-7FAE-429F-9A36-FFEFAC20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8C62D-4B06-460F-90BC-903CFBA5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4650E-C604-4BEF-8CB0-56DCAC8D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1DA08-7C3D-4CC1-9D0E-24599CEC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3F5D-DC08-4BD9-9C2B-0DACEC07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9FBAD-8DC7-45BB-82D5-88966D15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C040-39F3-42EF-8824-B38700B0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99A0-BED8-478C-A4D5-B4F16F95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20E65-8FB9-4B0C-BB13-78AA0BB8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14E-F01F-45AA-928B-57C3CBCD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6F87B-5EE7-45C2-8D0B-BF9597BB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A9769-390D-4183-AD7C-814D8929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60AAB-C3D6-4274-B3A4-E5EA1065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CA17E-FDC3-43FA-A3A9-53EFDCE0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C37E9-8588-4510-9C70-9443020D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D2E0D-6B6D-4DE0-846E-8E801AAF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2B95B-DF19-4697-B69F-9A1E842A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D938C-E7DE-4407-B1B0-485CB79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DCB7F-782E-4A2A-AD0D-F8AE77F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4E2F-77C0-46CA-9DE7-88B82CDA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B94-6D4E-4C72-965F-48371E35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8D044-E119-4F55-8675-5CE7DB4F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44093-378B-4EF4-82FC-98E07713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EAFB0-5AB7-49BF-A654-BBEB6F5E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EABD1-5217-43E1-98AF-CDC1B18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37299-8DAB-4280-AD8A-BF71B072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31677-2046-4FA3-B867-779926D7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3AD33-3CE7-4BA7-8992-C71D2021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11A7C-B073-426E-9B78-EC28780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FAE51-1803-402E-9908-6A46F18F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2066-D271-43C8-898D-EE79A08E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013-D128-4C0C-88BE-C7CF925D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322BF-2D69-4F29-A1E5-A65059A9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CD3ED-EA41-4C7E-B838-86A852CC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73887-3978-4863-B2F5-78E312DD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4AA92-6D87-4B4A-80AC-AC04796A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3713E-3C0A-4B6C-95B3-021E652F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CF1DB-A9E8-4BDB-8BF5-249C61EE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6BB7B-118A-425D-A099-6AA8009C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13CC6-EDE5-48FC-8B94-C3D9F6C4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75E93-A7A2-4C4F-897B-1A2D55C6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31538-AABD-4EFC-AF60-27B4811A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68A-CC9B-42EC-8A41-2D1ECA2B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7D4FC-B96B-41CE-8F5E-7EE187DA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1723F-4151-49B0-96F5-183E6382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2149B-0698-4597-BC52-8A944808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CCCB-806B-4818-9E13-9F062F9A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CEEDD-723F-4DF2-B473-F31B4890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39295-9426-4C81-82BE-79E4FAD4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6089E-EC6B-4DAF-B920-D0B00521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569FC-3722-4BD9-A9E1-BB44EB74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78CAF-E77B-4499-B423-C63B431D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F8392-37F9-4050-BA72-1894CE84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62E-E1DE-4FEE-9BEB-702B18EB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658C8-58EF-4056-BDD8-27CE52FC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57294-BA73-4E66-99C3-24B0F6E8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FA53A-3B8B-4A2D-A401-3EE4014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3FCC2-78ED-4AF1-A1AE-ED97C82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FA747-CB2E-4E33-8059-D1CC1077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E0684-BB37-4A70-8445-25C5DB87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F7A10-3DD5-4698-8A83-DBDD103B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7AF48-8A91-4EA8-B8D2-A8006A21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82AEE-837F-497E-B25B-F312276D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358AA-C2B4-4E30-8F26-5B4E1E82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213A-65B5-4C17-B8A6-CE624B632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3B0A-DE6A-4E00-928D-440C2D504A9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DA18-F09E-4C27-ABBF-A7BA2EE55ED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A95C-7682-4ED7-AE15-8D9ADD24E69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2A36-E8C4-4FD3-A607-84FAE4C1091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F0B8-12BC-478D-AF0B-4B712B8797D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AD63-E986-40C5-8C98-E103117A8F1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13B0-0F08-4335-AAF0-885F9C3E5F8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7DD4-2970-40C0-A463-1D74D7F93B8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97BC-2F38-478A-9EAE-BF17C710788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5288-37A4-4AF5-A864-376DCB5F20B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CA73-E3B1-4024-8FBB-628E55C97AC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B30-94C6-40ED-AB5C-3EA67FFFD12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900000" y="404640"/>
          <a:ext cx="6189840" cy="484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618984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предмету «Окружающий мир» 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Золотухина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71»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124000" y="324468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авальнюк Л.Год-пароход М.:Омега, 2001.-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исунок корабл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ww.weblanc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од?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гром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ранный пароход, необыч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лывёт не по воде он, он по времени плы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12224" r="0" b="12224"/>
          <a:stretch/>
        </p:blipFill>
        <p:spPr>
          <a:xfrm>
            <a:off x="2627280" y="126828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121200" cy="1152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жит пред ним зи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ом инее дом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679640" cy="511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2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7560" cy="117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по весн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капели в ти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679920" y="765000"/>
            <a:ext cx="5068800" cy="4819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67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0894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через ле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вся земля сог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52563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328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вё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ки в небе, дожд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4968720" cy="489744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55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он плывёт и днё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лит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что мы зов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МИ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2305080" cy="202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2879640" cy="2300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 rot="20667600">
            <a:off x="533160" y="968040"/>
            <a:ext cx="5846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в России, как и во всём м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ён года – четы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200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ВЕСНА, ЛЕТО,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ОГДА У ТЕБЯ ДЕНЬ РОЖДЕ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ИМОЙ    ВЕСНОЙ    ЛЕТОМ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 КОГДА ДЕНЬ РОЖДЕНИЯ У Г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ОМ       ОСЕНЬЮ     ВЕСНОЙ  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ГДА ЗВЕРИ ЗАПАСАЮТ ПРОДУКТЫ НА ЗИ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ЕСНОЙ                                  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В КАКОЕ ВРЕМЯ ГОДА ЦВЕТУТ САД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ИМОЙ    ЛЕТОМ            ВЕСНОЙ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ТЫ ЗНАЕШЬ ВРЕМЁН ГОДА И КАК О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ЮТС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7:01:39Z</dcterms:created>
  <dc:creator>Сергей</dc:creator>
  <dc:description/>
  <dc:language>en-US</dc:language>
  <cp:lastModifiedBy>Сергей</cp:lastModifiedBy>
  <dcterms:modified xsi:type="dcterms:W3CDTF">2013-06-04T17:34:40Z</dcterms:modified>
  <cp:revision>19</cp:revision>
  <dc:subject/>
  <dc:title>Слайд 1</dc:title>
</cp:coreProperties>
</file>